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187-7EAD-46ED-BF7A-CC1E7909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D595-4A25-41CB-BEC7-F64C7F78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DB7-3A37-4E78-86AB-08D7103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FFB-89F9-4D56-9381-0438C8B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25A-8732-4416-BD1D-59D766DB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3E8-E584-4814-BD4C-1D699387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818-DA0A-4CFE-A080-D67AA47C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D1E-73C9-49CD-BA7E-3799361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35D-B7CF-489B-BB66-7813A4E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64F-FEA0-4679-9871-8860A85C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680-8AC6-4003-89CE-D5086D0B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DC8-1CFB-46C1-8936-AA7EE86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A8B-9B03-41A8-9EF4-59A8644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A80-EFF2-47E9-9E72-46B2C74A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7956-E697-4248-943D-7DD2453C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44792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mah Od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smah ode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 ¿cómo estas?  ¿Qué hac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439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iff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Asmah Ode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vivo en New York C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atorce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uatro hermanos.yo amo la mus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645080"/>
            <a:ext cx="5047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5320" y="46450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istain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i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3"/>
          <a:stretch/>
        </p:blipFill>
        <p:spPr>
          <a:xfrm>
            <a:off x="133200" y="55594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192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4"/>
          <a:stretch/>
        </p:blipFill>
        <p:spPr>
          <a:xfrm>
            <a:off x="2114640" y="2530440"/>
            <a:ext cx="46332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5"/>
          <a:stretch/>
        </p:blipFill>
        <p:spPr>
          <a:xfrm>
            <a:off x="2189160" y="3273480"/>
            <a:ext cx="420840" cy="82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22840"/>
            <a:ext cx="46332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4724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yo puedo bailar. Mis hermanas y yo somos excelentes bailarinas.  ¿dónde cenamos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  TIFF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bailar. ¿Puedes  tú bailar?                                     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127240" y="4492800"/>
            <a:ext cx="46980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ien ¿Y tú? Hablamos  contigo. ¿Qué quieres hacer?                                        TIFF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Donde están tus hermanas?                                  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94440"/>
            <a:ext cx="463680" cy="865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as están con nuestros padres. ¿dónde están tú y hermanas?                        TIFF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6016680"/>
            <a:ext cx="47628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en la supermercado. CHAU                                    ASMA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79040" y="60199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l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ecuredownload.jpeg"/>
          <p:cNvPicPr/>
          <p:nvPr/>
        </p:nvPicPr>
        <p:blipFill>
          <a:blip r:embed="rId11"/>
          <a:stretch/>
        </p:blipFill>
        <p:spPr>
          <a:xfrm>
            <a:off x="304920" y="609480"/>
            <a:ext cx="914400" cy="1067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743200" y="6500880"/>
            <a:ext cx="44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ós                                     TIFF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6:29Z</dcterms:modified>
  <cp:revision>118</cp:revision>
  <dc:subject/>
  <dc:title>Profile</dc:title>
</cp:coreProperties>
</file>